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581D-37D6-486F-AC95-A2391CE4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70F-4E8D-47E9-8397-71B81A44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3B5-72B3-49A1-AEF7-DCFF527A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4DF-E992-491D-A8FC-92094AB0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6072-2A7B-4E83-8171-121AECD5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94BB-A9BE-4D37-B2F0-61A9941F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C63-6D15-43E9-91F3-0BDF7705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E864-29F9-4C86-A68F-2C68B8E4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2D1C-7B36-49B5-B535-A499A05D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F75-E0BB-4D05-8997-41C15DC4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852-C68B-43C7-AD63-211941D2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E1D8-D2D8-45E7-A5A1-2BF5A9C5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E3A5-B87C-4440-92CE-0D589E53B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095880" cy="2438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690732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6168960" cy="1444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2743200"/>
            <a:ext cx="36576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07732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023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20080" cy="229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71600" y="4038480"/>
            <a:ext cx="6851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657600" cy="2822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29200" y="2514600"/>
            <a:ext cx="3657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</cp:lastModifiedBy>
  <dcterms:modified xsi:type="dcterms:W3CDTF">2010-01-13T20:49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