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43EB5-6117-4C77-A19B-A0895EEFF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A44B9-5CA9-439A-A874-B42CC31C2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7F94D-35A8-401E-BC87-439887097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CD48B-E9C0-462B-81FD-F42DF7944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BC20A-974B-40A9-9ADE-05AB4D49A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908DD-5E82-4CC8-A25C-33DCF966C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8FCFF-A5BD-4075-B0C5-02DA7F569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C2FE8-7544-4C33-9DFA-767EB4E0A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E2AD9-2594-4A5B-A9B5-1C4432C0E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2D61C-2054-47B3-BC1D-038C001B1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06954-76D8-4DF9-88E5-F2126C350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E5B99-A5B5-4732-98AD-5166DCF6B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9FA7A-A20C-46E5-AA38-405978928E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457200" y="2057400"/>
            <a:ext cx="4267080" cy="243828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5410080" y="1752480"/>
            <a:ext cx="3608640" cy="296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286000" y="1066680"/>
            <a:ext cx="4498920" cy="465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590920" y="609480"/>
            <a:ext cx="3608280" cy="23590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1828800" y="3809880"/>
            <a:ext cx="5486400" cy="25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57200" y="1828800"/>
            <a:ext cx="3608280" cy="30481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4648320" y="1295280"/>
            <a:ext cx="3992400" cy="419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666880" y="1905120"/>
            <a:ext cx="3608640" cy="26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057400" y="762120"/>
            <a:ext cx="5334120" cy="52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4876920" y="1447920"/>
            <a:ext cx="3687480" cy="39621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838080" y="762120"/>
            <a:ext cx="3608640" cy="51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590920" y="380880"/>
            <a:ext cx="3608280" cy="23655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1905120" y="3505320"/>
            <a:ext cx="5029200" cy="28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666880" y="533520"/>
            <a:ext cx="3608640" cy="21333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438280" y="3657600"/>
            <a:ext cx="4327560" cy="213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666880" y="457200"/>
            <a:ext cx="3608640" cy="25178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2438280" y="3809880"/>
            <a:ext cx="4340520" cy="23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133720" y="304920"/>
            <a:ext cx="4194000" cy="25174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2362320" y="3505320"/>
            <a:ext cx="3657600" cy="274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286000" y="1219320"/>
            <a:ext cx="4419720" cy="40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362320" y="533520"/>
            <a:ext cx="4327560" cy="525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828800" y="914400"/>
            <a:ext cx="54864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362320" y="1600200"/>
            <a:ext cx="4340160" cy="32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vnsl</cp:lastModifiedBy>
  <dcterms:modified xsi:type="dcterms:W3CDTF">2010-02-04T06:25:55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