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3FED-975F-44FA-9992-EF1A2959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C3E-1C73-41F9-B5BF-A7EF935C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4229-F2CD-40AA-9747-69CB7524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40C3-C290-4CDB-AEB2-9469AD14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8E44-307A-40B8-8D3E-1E22BDDC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6C9-7E61-44D1-87A3-5BFA1F98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776B-708D-47FA-851E-CED2A9B6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9EC-545C-478F-9DBF-D80E1A5E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001-CDD1-4D85-90D6-78EC40DB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505-BE2E-4DEE-8C8E-67CE2356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3F4-DFE2-46D1-914D-99A3766B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5DE-A145-44B0-85FC-00AA4529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BFC5-44B7-4E07-9711-83767538F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19520" y="685800"/>
            <a:ext cx="3608280" cy="1225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743200" y="3048120"/>
            <a:ext cx="36082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48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66322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8644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19520" y="1143000"/>
            <a:ext cx="360828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360828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666880" y="3657600"/>
            <a:ext cx="3608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6086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608280" cy="1755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76920" y="609480"/>
            <a:ext cx="3608280" cy="1603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590920" y="3200400"/>
            <a:ext cx="3956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360828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40658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08640" cy="1835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303440" cy="2060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895480" y="3276720"/>
            <a:ext cx="3608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138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24332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438280" y="2743200"/>
            <a:ext cx="4181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nsl</cp:lastModifiedBy>
  <dcterms:modified xsi:type="dcterms:W3CDTF">2010-02-04T03:01:1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