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50ED-0D37-4AED-8103-6F30AE90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C8E5-5932-49B0-9842-1226FF1F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7C7-07E1-4899-81C5-DBB2E615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2A15-EA7E-4D0E-A547-8FA1A739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9206-9C8B-457F-A0BB-48EC62AD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4205-79BA-4346-B55F-C2A928B9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7647-AD57-4CAB-BD6B-ECEB89A6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FB72-C023-4C20-A7DF-956ADC22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1A31-7BA9-4108-95DC-FD4A58D4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4219-03E8-46B7-8C97-8EEA9E29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4BCF-30F7-470A-88B3-216F5C72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4EFF-401B-4441-863D-91A4AAC6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4B8F-6CFC-4335-94D1-654C9464D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9496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250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3657600" cy="2133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362320" y="3733920"/>
            <a:ext cx="4645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3657600" cy="2670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09680" y="4419720"/>
            <a:ext cx="4419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736800" cy="2975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327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3657600" cy="3127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057400" y="4114800"/>
            <a:ext cx="53341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657600" cy="3505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36576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248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365760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3:39:0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