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E1A4-0480-4236-A1E0-7D26BB863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6AF1-8287-4DFD-AEBC-574702B4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2C6E-0491-4DC5-8BF9-EFD3DC8FA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06D4-44C5-4BB9-AA3A-CB52C7A4B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DA14-F945-4586-94EF-DEC76DCA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4FD4-39A9-4F33-83AB-730E5381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2984-4124-4C76-841F-2856500C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B484-0587-4A71-A718-87C19066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139F-2B04-4DD0-99A6-F26B3480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A5E8-D8BA-44D5-9DC0-3A86B4B9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D0C5-2F4E-4470-A1F9-166A82BA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7A21-58AA-4BA2-978E-7382B2E9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F3C2-3274-4E78-B59B-6FB8A3A30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62320" y="762120"/>
            <a:ext cx="3985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38280" y="1066680"/>
            <a:ext cx="426744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3608280" cy="4498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876920" y="1143000"/>
            <a:ext cx="36082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3608280" cy="2749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029200" y="1066680"/>
            <a:ext cx="3608280" cy="44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38828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362320" y="1447920"/>
            <a:ext cx="411480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4170240" cy="2438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257800" y="1828800"/>
            <a:ext cx="360828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09680" y="1371600"/>
            <a:ext cx="480384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579132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3608280" cy="4498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914400"/>
            <a:ext cx="36082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3608280" cy="4578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029200" y="1066680"/>
            <a:ext cx="36082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3608280" cy="4498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876920" y="1828800"/>
            <a:ext cx="36082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559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nsl</cp:lastModifiedBy>
  <dcterms:modified xsi:type="dcterms:W3CDTF">2010-02-04T03:07:5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