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6586-F195-46FD-8AE6-545CE4E53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4837-6E54-420B-AEE7-0506B82E2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85D1-82E7-464E-BAD4-F05A72BF6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6FF4-A0AF-4BE0-B501-42594FEF5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B2D6-DBEA-440D-8813-44F7D5298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3B73-75FD-4D7F-BFCF-042AF6E20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C214-5203-4EBB-B981-461F9AFDA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4133-EBB5-4EA8-9963-56A5756D1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0A3A-E03C-4723-B31A-99E620B9E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87D3-FAAF-4944-A156-83E36635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6589-AC39-4E4C-9D61-AFB12909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4208-44D8-4B53-AC5A-39F30E4C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D21EB-13E1-45F1-B551-A6D0B5440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3657600" cy="22068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876920" y="1981080"/>
            <a:ext cx="365760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57913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3736800" cy="2670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952880" y="990720"/>
            <a:ext cx="3657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3657600" cy="2517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724280" y="1523880"/>
            <a:ext cx="365760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81080" y="1523880"/>
            <a:ext cx="5334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743200" y="2133720"/>
            <a:ext cx="365760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n</cp:lastModifiedBy>
  <dcterms:modified xsi:type="dcterms:W3CDTF">2010-01-13T20:45:3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