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635-CFC7-4DE9-882C-D8FD766E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0A47-7797-4D75-BDF7-C565F2AB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01C7-2CE7-426F-A73A-22C1A014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A633-8957-46F9-B27B-ABCCED72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EB39-07B1-4042-9E56-0CE91C46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71EB-F99A-46CA-951A-7C2D35BA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324-85FC-44D7-9674-443B5F54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FA25-3D28-44CF-B0B6-665C83BF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CF4A-4C7E-44B2-B782-8592849B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9A2B-7615-4783-8A95-90200C18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E6E1-C00F-40C3-A2AE-24D4C563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1523-4019-4331-99E5-A4499FC4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39CB-E8ED-4FE1-9918-EBF3E1AF9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168960" cy="2060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90920" y="3657600"/>
            <a:ext cx="4114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267080" cy="3292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380988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4876560" cy="2511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3200" y="3581280"/>
            <a:ext cx="396252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72428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6576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181840" cy="2597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895480" y="3886200"/>
            <a:ext cx="3657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533520"/>
            <a:ext cx="3657600" cy="2822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3880" y="4114800"/>
            <a:ext cx="62485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035240" cy="2511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3657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657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736800" cy="2901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365760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3:37:0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