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CF2-DF01-46CF-B196-C74C6FB9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C27-2010-43EC-9116-BDFE5C0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CB4-CAFA-4CDF-B0A2-D85C0410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610-E9CE-4A82-84E8-053A8291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B19-09A1-4F7E-A36A-D8067D96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822-EDDE-40FA-BFC2-79A670F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65C-C30E-4962-A4E9-B5A2DBBD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A41-9A27-4345-B779-8CF1C22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582-6D81-4883-BCA4-C1812198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9D3-0C27-42C8-AE4C-98C80D0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23A-0CA9-4C28-90A7-12E4873A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634-5823-482E-A3D7-FDB2704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DDB9-672B-4CE7-AF72-FB739A83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608640" cy="1378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0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08280" cy="229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608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77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68784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4876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246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94000" cy="327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60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814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943600" cy="282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90920" y="685800"/>
            <a:ext cx="3614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59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6086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67020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24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2:10:46Z</dcterms:created>
  <dc:creator>dan</dc:creator>
  <dc:description/>
  <dc:language>en-US</dc:language>
  <cp:lastModifiedBy>avnsl</cp:lastModifiedBy>
  <dcterms:modified xsi:type="dcterms:W3CDTF">2010-02-04T03:13:25Z</dcterms:modified>
  <cp:revision>6</cp:revision>
  <dc:subject/>
  <dc:title>Slide 1</dc:title>
</cp:coreProperties>
</file>