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840-F1A6-45FE-8D7A-9B77E45C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5EC-54F2-41AC-9080-A252982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92C-1955-400D-8C01-19C81342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983-209E-4853-A1A1-AF6A1737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BCD-B2CF-4A5B-A54E-3DD82AA3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822-DE40-4740-BEA1-9A139BF8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2A4-A904-4462-813A-7A7964AB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EFA-0579-4AC2-80F8-3B1548EB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FA0-9BFD-4092-B1F4-D414F5EE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892-B827-4B52-ABDB-21984CBE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63F-F0AF-4735-A567-AB86B2B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6ED-6F3E-4E3D-9AD4-5B3E334A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303B-C390-458A-8DA8-811D054D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6147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60828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3200400"/>
            <a:ext cx="3608280" cy="266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952880" y="2743200"/>
            <a:ext cx="36086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76920" y="4114800"/>
            <a:ext cx="360828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865320" cy="205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4005360" cy="1298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5800" y="3809880"/>
            <a:ext cx="360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66960" y="301680"/>
            <a:ext cx="36082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3614760" cy="1451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90920" y="457200"/>
            <a:ext cx="3608280" cy="993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90920" y="2133720"/>
            <a:ext cx="360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3608280" cy="193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3608280" cy="145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3608280" cy="198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62120" y="4038480"/>
            <a:ext cx="36082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66960" y="1521000"/>
            <a:ext cx="360828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3608280" cy="19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3608280" cy="198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00600" y="685800"/>
            <a:ext cx="3608280" cy="190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3608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60828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762120"/>
            <a:ext cx="3822840" cy="229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608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2:16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