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2E94-ECF8-457A-A68A-A4EA71AD5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0E63-7AC2-4415-83DF-136763FA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20D3-DECB-41A9-9362-27AC75F2E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162D-06DE-4A31-A5B7-21FE28FC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92FE-DF64-4F75-8B42-7F034636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6342-1280-411C-B20D-D64D603E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E281-5580-42A9-A1AD-F84DCCC2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3A29-7B65-4D07-8A89-41BC14B4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78B1-638A-4988-B1A2-907403E8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85AB-66B1-43BB-A351-D862A12A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E01B-3BBD-47D4-ACDD-908DB906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5986-FF4E-4E32-BFC1-308BA7F7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65FC-D896-4461-9FB6-73FB17190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3657600" cy="2060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029200" y="838080"/>
            <a:ext cx="3657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81080" y="762120"/>
            <a:ext cx="4857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434016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3657600" cy="4876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19720" y="1219320"/>
            <a:ext cx="43830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55948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50292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44989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168960" cy="2359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828800" y="3733920"/>
            <a:ext cx="5718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717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79132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254560" cy="2975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676520" y="4114800"/>
            <a:ext cx="5486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n</cp:lastModifiedBy>
  <dcterms:modified xsi:type="dcterms:W3CDTF">2010-01-13T20:39:5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