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7D0-62F2-4661-93AD-3840BD8C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754-2EA6-431C-A22B-16D78697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BD6-8A46-47A1-9D36-5D7F3C35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14A-0C6C-4750-AF93-5DA409CD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FCF-0EA9-406D-A9BF-BA9350D2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CF9-920D-4208-A983-507CC1DC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9E0-CA31-477C-8D75-4D133C10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D10-C760-4086-90A8-EDA387A0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F38-1898-458E-A38E-620B8E64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2E4-FE51-4BD0-83E6-66FC3C2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D2B-CDE4-4F37-A503-022A6369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CC4-86CE-4A77-9C12-E951235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605-5BF0-476B-BFA1-EE3E8C57E040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425680" y="1944720"/>
            <a:ext cx="4292640" cy="2968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554280" y="2500200"/>
            <a:ext cx="2035440" cy="1857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130560" y="1987560"/>
            <a:ext cx="2882880" cy="2882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130560" y="1987560"/>
            <a:ext cx="2882880" cy="28828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805120" y="2405160"/>
            <a:ext cx="3533760" cy="2047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127320" y="2457360"/>
            <a:ext cx="2889360" cy="1943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770200" y="2774880"/>
            <a:ext cx="3603600" cy="1308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770200" y="2752560"/>
            <a:ext cx="3603600" cy="1352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309840" y="2432160"/>
            <a:ext cx="2524320" cy="1993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309840" y="2584440"/>
            <a:ext cx="2524320" cy="1689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489480" y="2508120"/>
            <a:ext cx="2165040" cy="18417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662200" y="2101680"/>
            <a:ext cx="3819600" cy="2654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489480" y="2449440"/>
            <a:ext cx="2165040" cy="1959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575160" y="2556000"/>
            <a:ext cx="1993680" cy="1746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4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951280" y="3009960"/>
            <a:ext cx="3241440" cy="838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314880" y="2670120"/>
            <a:ext cx="2514600" cy="1517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424240" y="2403360"/>
            <a:ext cx="4295520" cy="2051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624040" y="1568520"/>
            <a:ext cx="3895920" cy="37209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643120" y="1638360"/>
            <a:ext cx="3857760" cy="35812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411280" y="2270160"/>
            <a:ext cx="4321440" cy="2317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374920" y="2286000"/>
            <a:ext cx="439416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371680" y="1820880"/>
            <a:ext cx="4400640" cy="32162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496960" y="2216160"/>
            <a:ext cx="4150080" cy="2425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373480" y="1766880"/>
            <a:ext cx="4397040" cy="33242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446200" y="2523960"/>
            <a:ext cx="4251600" cy="181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585880" y="2206800"/>
            <a:ext cx="3972240" cy="2444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824200" y="2179800"/>
            <a:ext cx="3495600" cy="2498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309840" y="2719440"/>
            <a:ext cx="2524320" cy="141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7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309840" y="2571840"/>
            <a:ext cx="2524320" cy="17143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7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79840" y="2654280"/>
            <a:ext cx="1984320" cy="1549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5-fig5_0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16:45Z</dcterms:created>
  <dc:creator>StephenKumar, SampathKumar</dc:creator>
  <dc:description/>
  <dc:language>en-US</dc:language>
  <cp:lastModifiedBy>StephenKumar, SampathKumar</cp:lastModifiedBy>
  <dcterms:modified xsi:type="dcterms:W3CDTF">2020-04-23T17:25:08Z</dcterms:modified>
  <cp:revision>2</cp:revision>
  <dc:subject/>
  <dc:title>PowerPoint Presentation</dc:title>
</cp:coreProperties>
</file>