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3EF1-A3A3-4B56-8627-471960FB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9611-0F7E-4AF4-96BD-A1FB369F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3A43-6DC5-48FB-B7A2-4CF99A74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A75-A4AB-423B-97D2-164E4B8E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BE69-1BC8-414D-B9A9-7E1071A0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CA5A-E43A-4AB2-A075-AED7120C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ECC8-54D4-4A17-ADB8-CCF1F94F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4A9-E90B-402E-AB3F-B81983EF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F9C9-539F-4C48-9D98-4767FD41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6410-A182-422B-B96B-20FA7BCA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DBC6-668C-4DB3-9931-3B74AE29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283-AD9A-44A7-BF98-42959939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984D-C168-4867-A476-1991D5B05CFF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794040" y="3017880"/>
            <a:ext cx="1555920" cy="8222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2-fig2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2757600" y="2755800"/>
            <a:ext cx="3628800" cy="13464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2-fig2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2708280" y="2548080"/>
            <a:ext cx="3727440" cy="176184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2-fig2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068640" y="2849400"/>
            <a:ext cx="3006720" cy="11592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2-fig2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4127400" y="3036960"/>
            <a:ext cx="889200" cy="78408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2-fig2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4167360" y="2892600"/>
            <a:ext cx="809280" cy="10728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2-fig2_03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297240" y="2914560"/>
            <a:ext cx="2549520" cy="1028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2-fig2_03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492360" y="2744640"/>
            <a:ext cx="2159280" cy="13687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2-fig2_04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492360" y="2784600"/>
            <a:ext cx="2159280" cy="12888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2-fig2_04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492360" y="2610000"/>
            <a:ext cx="2159280" cy="163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2-fig2_04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514680" y="2662200"/>
            <a:ext cx="2114640" cy="15336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2-fig2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592440" y="3137040"/>
            <a:ext cx="1959120" cy="58392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2-fig2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3T17:03:32Z</dcterms:created>
  <dc:creator>StephenKumar, SampathKumar</dc:creator>
  <dc:description/>
  <dc:language>en-US</dc:language>
  <cp:lastModifiedBy>StephenKumar, SampathKumar</cp:lastModifiedBy>
  <dcterms:modified xsi:type="dcterms:W3CDTF">2020-04-23T17:20:38Z</dcterms:modified>
  <cp:revision>2</cp:revision>
  <dc:subject/>
  <dc:title>PowerPoint Presentation</dc:title>
</cp:coreProperties>
</file>