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572-FD66-4208-824E-E73C0ED2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F8E-6D50-4B14-A8B8-F80E0A2A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8D1-37FF-4286-9726-C925FDBC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9B3-56BA-485A-9F5C-6B59E159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8B0-3F4E-4C9A-8A36-B73ACD30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188-06CE-4E11-A225-E0D13F1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211-4BF1-4198-870F-00F7CEF0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040-A7F9-4DA0-81F1-074F9F45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50D-05AD-413B-8DF7-5B0CE566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9D9-FF35-40EF-8266-14F7EE8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C5E-5BF4-4443-8D3A-4FD3227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3CF-5637-42CF-ABBE-852ED99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2841-0BE0-44B1-84CE-8A54EE4EA5E7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71800" y="2305080"/>
            <a:ext cx="3200400" cy="2247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427120" y="2554200"/>
            <a:ext cx="4289760" cy="1749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178080" y="2789280"/>
            <a:ext cx="2787840" cy="1279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068560" y="1919160"/>
            <a:ext cx="5006880" cy="3019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06560" y="3011400"/>
            <a:ext cx="3530880" cy="835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92200" y="1662120"/>
            <a:ext cx="4359600" cy="3533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631960" y="2062080"/>
            <a:ext cx="3880080" cy="2733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Chien_Fig- 01-fig1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3T17:02:02Z</dcterms:created>
  <dc:creator>StephenKumar, SampathKumar</dc:creator>
  <dc:description/>
  <dc:language>en-US</dc:language>
  <cp:lastModifiedBy>StephenKumar, SampathKumar</cp:lastModifiedBy>
  <dcterms:modified xsi:type="dcterms:W3CDTF">2020-04-23T17:19:27Z</dcterms:modified>
  <cp:revision>2</cp:revision>
  <dc:subject/>
  <dc:title>PowerPoint Presentation</dc:title>
</cp:coreProperties>
</file>