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6C8-56CA-4D71-BC4D-A0D6F534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4F2-DB33-4C00-A950-5B65A63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0E9-AA8D-418D-8615-3F27B5B8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A7B-F462-45EA-8A87-304ECEB9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A9C-E81E-41C2-AA52-CA25801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AE7-CD60-4C5A-89AA-F55A049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A57-4C7B-4019-9B97-5ABB2D77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4FE-CD07-4975-8CC6-5062146D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485-7B75-4DB4-B789-0EE64464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418-D593-4232-9731-5F05669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C16-9B19-4B12-A86C-817ABC2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231-A920-4AE7-85EF-8AA44A6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07A-76CA-4D17-8088-6EA8B92329E2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360" y="2260440"/>
            <a:ext cx="2159280" cy="2337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433600" y="2197080"/>
            <a:ext cx="4276800" cy="2463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411280" y="2076480"/>
            <a:ext cx="4321440" cy="2705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424240" y="2027160"/>
            <a:ext cx="4295520" cy="280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92360" y="2355840"/>
            <a:ext cx="2159280" cy="21463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89480" y="2257560"/>
            <a:ext cx="216504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770200" y="2506680"/>
            <a:ext cx="3603600" cy="1844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78400" y="2441520"/>
            <a:ext cx="1987200" cy="197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78400" y="2440080"/>
            <a:ext cx="1987200" cy="1977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92360" y="2360520"/>
            <a:ext cx="2159280" cy="2136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770200" y="2610000"/>
            <a:ext cx="3603600" cy="163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70200" y="2532240"/>
            <a:ext cx="3603600" cy="1793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038400" y="2282760"/>
            <a:ext cx="3067200" cy="229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038400" y="2282760"/>
            <a:ext cx="3067200" cy="2292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592360" y="2538360"/>
            <a:ext cx="3959280" cy="1781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7040" y="2454120"/>
            <a:ext cx="3949920" cy="1949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21000" y="2336760"/>
            <a:ext cx="4302000" cy="2184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6-fig6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9:07Z</dcterms:created>
  <dc:creator>StephenKumar, SampathKumar</dc:creator>
  <dc:description/>
  <dc:language>en-US</dc:language>
  <cp:lastModifiedBy>StephenKumar, SampathKumar</cp:lastModifiedBy>
  <dcterms:modified xsi:type="dcterms:W3CDTF">2020-04-23T17:26:00Z</dcterms:modified>
  <cp:revision>2</cp:revision>
  <dc:subject/>
  <dc:title>PowerPoint Presentation</dc:title>
</cp:coreProperties>
</file>