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9A5-0BF8-467E-A00F-332D7597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D28-EE99-4D63-95AE-FCC2E998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22E-6D18-4289-96E3-9B678740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210-E4D7-47B2-B135-CA167468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0834-B127-4CAF-B6DB-6E6F0DE5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CC3-6232-461F-9888-B41B9BAA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57A-517F-4087-9265-D651E26B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B51-F93C-4840-8E20-D2D3AB86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187-F756-4240-AF94-6AB4EC44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28D-2AD1-405A-B1A7-F28537C5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EF6-B4F7-48D8-801F-F3F1CDAE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8AA-9089-4F7F-8DC7-D8915965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8A55-6878-4CBD-8E2B-0AA57D2484EB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146400" y="2708280"/>
            <a:ext cx="2851200" cy="14414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7-fig7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559320" y="2746440"/>
            <a:ext cx="2025360" cy="136512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7-fig7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2766960" y="2475000"/>
            <a:ext cx="3610080" cy="190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7-fig7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002040" y="2278080"/>
            <a:ext cx="3139920" cy="2301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7-fig7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2365200" y="1992240"/>
            <a:ext cx="4413600" cy="28735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7-fig7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376360" y="2314440"/>
            <a:ext cx="4391280" cy="22291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7-fig7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152800" y="2136600"/>
            <a:ext cx="4838400" cy="2584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7-fig7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3T17:20:28Z</dcterms:created>
  <dc:creator>StephenKumar, SampathKumar</dc:creator>
  <dc:description/>
  <dc:language>en-US</dc:language>
  <cp:lastModifiedBy>StephenKumar, SampathKumar</cp:lastModifiedBy>
  <dcterms:modified xsi:type="dcterms:W3CDTF">2020-04-23T17:26:41Z</dcterms:modified>
  <cp:revision>2</cp:revision>
  <dc:subject/>
  <dc:title>PowerPoint Presentation</dc:title>
</cp:coreProperties>
</file>