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648-E874-4EDA-938A-6E05B2D2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765-AC06-47EB-9843-52BE3D63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097-F183-4BA0-94FA-6BCA870E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B20-4883-4709-BC19-96581FEF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CE3-6298-4A19-9C0B-0303904D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BA9-3C37-4376-BABA-E8C1961A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AE8-1918-422A-AB07-13491FB3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428-B3FA-4445-B21B-699C4E9E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FE4D-61F6-4C10-A05A-7787E0F3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6E8-F7EA-4DDE-A43B-372F8587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E3D-8EE5-4EBE-BA30-F211444A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407F-4495-481D-ADEF-E15BF57E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FDF1-BC7F-40D9-8F6B-FFB8C6E5F0FC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46400" y="1684440"/>
            <a:ext cx="4651200" cy="3489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8-fig8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129120" y="1662120"/>
            <a:ext cx="2885760" cy="35337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8-fig8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129120" y="2276640"/>
            <a:ext cx="2885760" cy="23047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8-fig8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130560" y="1933560"/>
            <a:ext cx="2882880" cy="2990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8-fig8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590920" y="1886040"/>
            <a:ext cx="3962160" cy="3085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8-fig8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619440" y="2706840"/>
            <a:ext cx="1905120" cy="1444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8-fig8_06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597120" y="2711520"/>
            <a:ext cx="1949760" cy="14349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8-fig8_06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597120" y="2711520"/>
            <a:ext cx="1949760" cy="1434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8-fig8_06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22:03Z</dcterms:created>
  <dc:creator>StephenKumar, SampathKumar</dc:creator>
  <dc:description/>
  <dc:language>en-US</dc:language>
  <cp:lastModifiedBy>StephenKumar, SampathKumar</cp:lastModifiedBy>
  <dcterms:modified xsi:type="dcterms:W3CDTF">2020-04-23T17:27:22Z</dcterms:modified>
  <cp:revision>2</cp:revision>
  <dc:subject/>
  <dc:title>PowerPoint Presentation</dc:title>
</cp:coreProperties>
</file>