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D9F-3748-49CD-9EDF-123A3B24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9A9-61A9-440A-B9A1-9E05978F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805-4D77-4486-A9BD-694DA43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505-213D-43EF-AE04-4015A596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746-BE7F-439B-9283-978664A7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26C-CDFE-4CBF-A0CB-AE168FCF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73E-8779-445B-B925-762A6977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DAF-00A4-4613-9FA3-94CCD01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AD7-17CF-4243-B569-1257EAD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FFA-55D5-4ECF-8D81-8D3E1C1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39E-1C12-4048-AC6C-5121185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0FF-4A2F-48C1-A182-2DDBA9C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40AE-18AC-4570-96CA-311DF60127E5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579840" y="2928960"/>
            <a:ext cx="1984320" cy="100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417840" y="2665440"/>
            <a:ext cx="2308320" cy="1527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35480" y="2709720"/>
            <a:ext cx="2273040" cy="1438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24320" y="2703600"/>
            <a:ext cx="2295360" cy="1450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449520" y="2719440"/>
            <a:ext cx="2244960" cy="1419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25760" y="2701800"/>
            <a:ext cx="2292480" cy="1454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8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924280" y="2611440"/>
            <a:ext cx="3295440" cy="1635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711600" y="2994120"/>
            <a:ext cx="1720800" cy="869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471840" y="2714760"/>
            <a:ext cx="2200320" cy="1428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470400" y="2422440"/>
            <a:ext cx="2203200" cy="2013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0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878200" y="2592360"/>
            <a:ext cx="3387600" cy="1673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600280" y="257652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832200" y="2792520"/>
            <a:ext cx="1479600" cy="1272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889440" y="2482920"/>
            <a:ext cx="1365120" cy="1892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374920" y="2817720"/>
            <a:ext cx="4394160" cy="1222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351240" y="2790720"/>
            <a:ext cx="2441520" cy="1276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346560" y="3071880"/>
            <a:ext cx="2450880" cy="714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5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100320" y="2843280"/>
            <a:ext cx="2943360" cy="1171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5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089160" y="2617920"/>
            <a:ext cx="2965680" cy="1622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5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99000" y="3070080"/>
            <a:ext cx="1746000" cy="717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630600" y="2841480"/>
            <a:ext cx="1882800" cy="1175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673440" y="2610000"/>
            <a:ext cx="1797120" cy="163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6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36960" y="2457360"/>
            <a:ext cx="1270080" cy="1943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686040" y="2610000"/>
            <a:ext cx="1771920" cy="163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684600" y="2630520"/>
            <a:ext cx="1774800" cy="1596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003480" y="2790720"/>
            <a:ext cx="3137040" cy="1276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213000" y="2540160"/>
            <a:ext cx="2718000" cy="177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216240" y="2428920"/>
            <a:ext cx="2711520" cy="2000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1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2811600" y="2444760"/>
            <a:ext cx="3520800" cy="19684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854440" y="2457360"/>
            <a:ext cx="3435120" cy="1943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371680" y="2300400"/>
            <a:ext cx="4400640" cy="2257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3233880" y="2435400"/>
            <a:ext cx="2676240" cy="1987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236760" y="2433600"/>
            <a:ext cx="2670480" cy="1990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651120" y="3157560"/>
            <a:ext cx="1841760" cy="542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2770200" y="1878120"/>
            <a:ext cx="3603600" cy="31017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768760" y="2595600"/>
            <a:ext cx="3606480" cy="1666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2587680" y="2398680"/>
            <a:ext cx="3968640" cy="2060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3346560" y="2525760"/>
            <a:ext cx="2450880" cy="1806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2878200" y="1981080"/>
            <a:ext cx="3387600" cy="2895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398760" y="2486160"/>
            <a:ext cx="2346480" cy="18856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560760" y="2246400"/>
            <a:ext cx="2022480" cy="236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2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3389400" y="2436840"/>
            <a:ext cx="236520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3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2922480" y="2467080"/>
            <a:ext cx="3299040" cy="192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3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648240" y="3156120"/>
            <a:ext cx="1847520" cy="545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648240" y="3156120"/>
            <a:ext cx="1847520" cy="545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510000" y="2251080"/>
            <a:ext cx="2124000" cy="2355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006720" y="2209680"/>
            <a:ext cx="3130560" cy="2438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413160" y="2668680"/>
            <a:ext cx="2317680" cy="1520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4-fig4_0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13:24Z</dcterms:created>
  <dc:creator>StephenKumar, SampathKumar</dc:creator>
  <dc:description/>
  <dc:language>en-US</dc:language>
  <cp:lastModifiedBy>StephenKumar, SampathKumar</cp:lastModifiedBy>
  <dcterms:modified xsi:type="dcterms:W3CDTF">2020-04-23T17:24:04Z</dcterms:modified>
  <cp:revision>2</cp:revision>
  <dc:subject/>
  <dc:title>PowerPoint Presentation</dc:title>
</cp:coreProperties>
</file>