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B0FA-7D14-4754-B684-F40D96C8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44BB-25AE-49CD-B560-8F420749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C43C-FE95-46CC-8D9F-03330FD1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0531-DCE7-43BF-B115-83ECB5CE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4FFA-F253-47F2-9AA2-66B3CC67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E052-0090-45AA-B9C6-108B820A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9B0F-A5F7-42DB-B316-00D11E45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5183-C61C-4AAF-AAB3-BD374484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9F83-7D84-47BB-BE8B-631D761E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128E-3916-4C17-B1B1-91F559D9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A963-BD8C-467F-8C97-54F10807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C391-C1C9-4866-83E2-EAECE564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D468-0A07-42A7-9757-06119F3EF6EE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327480" y="2446200"/>
            <a:ext cx="2489040" cy="19656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736560" y="1533600"/>
            <a:ext cx="7416720" cy="414504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2894040" y="2498760"/>
            <a:ext cx="3355920" cy="186048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2981160" y="2155680"/>
            <a:ext cx="3181680" cy="2546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12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2921040" y="2176560"/>
            <a:ext cx="3301920" cy="25048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12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3552840" y="2630520"/>
            <a:ext cx="2038320" cy="159696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13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3511440" y="2647800"/>
            <a:ext cx="2121120" cy="156240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13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3552840" y="2627280"/>
            <a:ext cx="2038320" cy="160344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13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3557520" y="2631960"/>
            <a:ext cx="2028960" cy="159408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13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3532320" y="2612880"/>
            <a:ext cx="2079360" cy="163224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13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2471760" y="2911320"/>
            <a:ext cx="4200480" cy="103536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3560760" y="2803680"/>
            <a:ext cx="2022480" cy="125064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2979720" y="2265480"/>
            <a:ext cx="3184560" cy="232704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2409840" y="1909800"/>
            <a:ext cx="4324320" cy="30384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3379680" y="2338560"/>
            <a:ext cx="2384640" cy="21808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3170160" y="2120760"/>
            <a:ext cx="2803680" cy="26164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2622600" y="2054160"/>
            <a:ext cx="3898800" cy="27496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3560760" y="2652840"/>
            <a:ext cx="2022480" cy="15523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3551400" y="2595600"/>
            <a:ext cx="2041200" cy="16668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3102120" y="2386080"/>
            <a:ext cx="2939760" cy="20858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3068640" y="2238480"/>
            <a:ext cx="3006720" cy="23810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2438280" y="1647720"/>
            <a:ext cx="4267440" cy="35625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406680" y="2639880"/>
            <a:ext cx="2330640" cy="157824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2622600" y="2784600"/>
            <a:ext cx="3898800" cy="12888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2608200" y="2781360"/>
            <a:ext cx="3927600" cy="12952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2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2374920" y="2325600"/>
            <a:ext cx="4394160" cy="22068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3311640" y="2168640"/>
            <a:ext cx="2520720" cy="25207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28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3311640" y="2168640"/>
            <a:ext cx="2520720" cy="25207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28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3130560" y="2476440"/>
            <a:ext cx="2882880" cy="19051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2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3406680" y="2505240"/>
            <a:ext cx="2330640" cy="184752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30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3400560" y="2505240"/>
            <a:ext cx="2342880" cy="1847520"/>
          </a:xfrm>
          <a:prstGeom prst="rect">
            <a:avLst/>
          </a:prstGeom>
          <a:ln w="0">
            <a:noFill/>
          </a:ln>
        </p:spPr>
      </p:pic>
      <p:sp>
        <p:nvSpPr>
          <p:cNvPr id="15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30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3400560" y="2494080"/>
            <a:ext cx="2342880" cy="18698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30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3228840" y="2401920"/>
            <a:ext cx="2686320" cy="20541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3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386160" y="2808360"/>
            <a:ext cx="2371680" cy="1241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3311640" y="2371680"/>
            <a:ext cx="2520720" cy="2114640"/>
          </a:xfrm>
          <a:prstGeom prst="rect">
            <a:avLst/>
          </a:prstGeom>
          <a:ln w="0">
            <a:noFill/>
          </a:ln>
        </p:spPr>
      </p:pic>
      <p:sp>
        <p:nvSpPr>
          <p:cNvPr id="15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3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2768760" y="3075120"/>
            <a:ext cx="3606480" cy="7077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3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2770200" y="2430360"/>
            <a:ext cx="3603600" cy="1997280"/>
          </a:xfrm>
          <a:prstGeom prst="rect">
            <a:avLst/>
          </a:prstGeom>
          <a:ln w="0">
            <a:noFill/>
          </a:ln>
        </p:spPr>
      </p:pic>
      <p:sp>
        <p:nvSpPr>
          <p:cNvPr id="16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3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2803680" y="1862280"/>
            <a:ext cx="3536640" cy="31334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3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3139920" y="2413080"/>
            <a:ext cx="2864160" cy="20318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3114720" y="2571840"/>
            <a:ext cx="2914560" cy="171432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371760" y="2395440"/>
            <a:ext cx="2400480" cy="206712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2986200" y="2451240"/>
            <a:ext cx="3171600" cy="195552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2770200" y="2494080"/>
            <a:ext cx="3603600" cy="186984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2427120" y="2405160"/>
            <a:ext cx="4289760" cy="20476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3-fig3_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3T17:07:35Z</dcterms:created>
  <dc:creator>StephenKumar, SampathKumar</dc:creator>
  <dc:description/>
  <dc:language>en-US</dc:language>
  <cp:lastModifiedBy>StephenKumar, SampathKumar</cp:lastModifiedBy>
  <dcterms:modified xsi:type="dcterms:W3CDTF">2020-04-23T17:22:31Z</dcterms:modified>
  <cp:revision>2</cp:revision>
  <dc:subject/>
  <dc:title>PowerPoint Presentation</dc:title>
</cp:coreProperties>
</file>