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F31-1D68-4254-A96D-9DC4B627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BB7-E54B-45C7-8308-F59E557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B5D-F5C4-47C3-A12F-E47B681C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8C4-8022-489E-872F-A5DFA2AA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62B-56D4-4AE6-99FF-5EDDF7D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0DA-153F-498E-BE0D-1177EC3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685-0AF6-4D86-B17E-1D307D10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88B-9B2F-4F0D-A8A5-83339722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2ED-1881-4961-9109-870ADEA3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F91-3763-4BBE-B52E-D5D515BE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D83-659E-4A4D-A6EB-F531D92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650-66DD-4E92-A6B2-3CAD3FB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2164-5A2E-41C3-8A8D-99DA7956E804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70200" y="2709720"/>
            <a:ext cx="1803600" cy="1438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849840" y="3138480"/>
            <a:ext cx="1444320" cy="581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76560" y="2922480"/>
            <a:ext cx="1190880" cy="1013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844800" y="2921040"/>
            <a:ext cx="1454400" cy="1015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762360" y="2919240"/>
            <a:ext cx="1619280" cy="1019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3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952720" y="2685960"/>
            <a:ext cx="323856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App-app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0:28Z</dcterms:created>
  <dc:creator>StephenKumar, SampathKumar</dc:creator>
  <dc:description/>
  <dc:language>en-US</dc:language>
  <cp:lastModifiedBy>StephenKumar, SampathKumar</cp:lastModifiedBy>
  <dcterms:modified xsi:type="dcterms:W3CDTF">2020-04-23T17:18:38Z</dcterms:modified>
  <cp:revision>2</cp:revision>
  <dc:subject/>
  <dc:title>PowerPoint Presentation</dc:title>
</cp:coreProperties>
</file>